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64D-CEAD-4FB2-9D03-4805F38F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1F3-8723-44D6-B626-6D10789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D15FA-0E5A-4C22-B76B-BA7F323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0F055-4F7A-47D2-A7B0-3E067830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6222B-A5D2-4DC9-9DC3-B4707346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43A06-BA41-42E6-8B11-B663E8CC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054F6-628C-4736-B203-B2E79D28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C5ADA-24E7-4D7A-A6E0-8D93910F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EDC42-9328-470A-95E2-1524EE8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818D8-7CB1-4613-A749-B3D99087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7CA7A-608A-4C9B-AE49-7B37141E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47DDD-881C-428E-87EF-C2E644F1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9D5-2B27-4F49-B0DE-279E3F08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093A7-3B93-44DB-8E12-D098BC92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4057-4639-4D49-80AB-CFCA0D0C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DD9AE-824D-47A6-8CC7-90747B11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E252D-2C07-4BC6-ACCF-64544EB9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F46C5-B367-4BAC-890D-F2C39298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278EB-3BCE-4463-9A48-D8C2B7B6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39272-F6DA-4F27-A3B2-31B14A61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E1D89-297D-4F1E-8F54-5C90B841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98ADE-72B4-4C68-9EA6-BDD54078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EC841-C0C5-41F8-AFA8-639E429C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F96-282E-4558-88F0-7131248E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E3211-AD76-40DC-9F76-FFE1B9DD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B6E47-14FA-42B5-9BC9-A62E0830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1B303-1654-4E5E-B8B6-C6364746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284FD-F083-4A2E-B735-2AEFFFFA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3286C-6CF2-4D7D-A85E-ED7484B1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F03BB-176F-48EA-B0A3-956FC40B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DC1BC-2F7F-4F26-B2E2-9F11EE12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8B03F-2F88-4F82-A983-831CD4F4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59319-A13E-4805-9F53-32E48F38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46B2E-2EC4-4652-A7E6-F85BBA66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328B-FDAC-48C4-862F-372B78D9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53C86-1584-45B1-A7F5-AC3B653E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A4B13-2798-4114-BA00-51E606CB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49E73-12DD-4BD5-8DD5-C9F8FEE2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1496F-E240-49A1-B041-BBD458D7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48223-FC7E-467A-93C2-97E1E782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F84DD-A57F-42C4-A7E9-D6A0C9F4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9E111-5AD3-4548-AC36-176E7A22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22838-BA70-4471-A41C-5365F915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F6EB2-0835-42D2-B2D5-F7E50C98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5F6A9-7558-483B-852D-68DCCE6E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9FAD-C81F-430B-B99C-E1DB661A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DB7B7-CB9A-4C8B-BD57-A18060E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55A96-DAFC-4684-ABD7-365A36C1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45CED-82E9-466D-A4E4-1921448C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87EC6-6DD9-4A29-89CD-A8EC0DE7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42017-9445-4D03-BFDF-B4AB9B88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A2A60-3D98-4E66-9DAC-25AAAF67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426ED-74C8-41B5-AB10-6ACEE855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24EF6-54AA-4A05-8206-C6B2965B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A57E6-C25F-4730-9C91-4533A9CD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16E11-C413-4AA0-8CB7-F54A4858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C1DC-5901-4142-9B5F-C3409505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9A96A-A63C-464B-A549-0BA51B3C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9D5AE-0415-4973-AF92-26D5B2A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404E0-707A-461E-8F6C-1BA6F7E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6CA0E-7318-4CB3-B89A-F816E546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463BC-C00E-4773-A0CA-FE3C84D3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B1743-A756-4409-B695-2DD28D31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E43E3-2AF3-407D-9945-3F3B219A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436EF-9492-48AB-AAAB-307B370D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E1A96-8E38-4300-93D1-838CA3B3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7B955-3209-403B-B37C-39C6EC8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FA92-63E5-4CD0-96BE-96E91A06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DE478-4A49-46AA-B652-C3B293A8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652E3-1E5D-472A-84CD-3C6787A9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2E543-A16B-46D5-AC6B-0369F241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7080B-1CCB-472F-B2CE-62037C4B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1A2F6-2218-48F3-A772-766C31F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3D758-4076-4FAB-B03B-01B6146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A7FF3-8825-4A2D-A13C-A1A9275A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51834-9DA4-4107-8E6A-8146BF90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F81AB-EDB0-42A0-AC53-2075482C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F1791-4706-4778-9291-44D9D969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4690-2F0A-40B3-B875-5AE990F3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B27D0-7EDA-4097-8D26-B0626EB1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F8292-6844-45DB-8060-68BFA487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ACE25-FB59-40E7-B437-9700EFF4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E23CB-9DFA-431D-A163-1E6D5EFF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E7C55-6C1E-4ABE-8CF0-72ECF18C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F1ED7-32F5-46DF-B433-DBECCB3B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46BE5-22EC-4395-B98A-BAAE413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BD384-602D-4166-9062-0CAB906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CE695-72D2-4627-9C91-9206602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1D4EF-473E-427D-9FC1-9FDC6383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8571-EFF3-472F-B44D-13E91588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F2C9E-1A43-4206-95FC-BD4244B7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CBFE8-3259-4806-81BB-839C4271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A10C7-D42B-4426-844D-FF190F2F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813CC-36E0-40CB-9712-1A88334D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4A39A-1BFA-48F4-938A-9A09A13E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D5605-4A89-46F1-997C-D954A260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EE7D4-61EF-4D59-A5FB-6DC1E4B2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89F8E-3031-4221-A5D7-8904D7F0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2D6061-CB02-4673-AD65-D15624E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5781F-C858-4E4D-A7D3-94C440A4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A0E3-1A83-483D-8C93-8293F61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C1327-2B45-4756-BA35-96190993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7F2FF-CC89-4117-B87E-9AD62F78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56ED9-A709-45D8-83A7-C275079F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882BF-B603-4247-B9D2-8FC876BB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05598-C1A0-41E0-B62B-28C9259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68107-D2CA-4BA7-A6D7-20514C3A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52FC0-C722-4D39-B50C-E401082C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F0C3F-D414-4A6F-9321-7B16A647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152B3-2979-4288-B505-01871DAD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9DAA1-2915-4529-AEFB-73BEEFF6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7AE-7C85-4CCC-A122-653CB31D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F7F0-4A73-4CE0-8131-79DAC4A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775BE-3C5C-4FD5-A6B4-C53DB3E6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2DD62-DEDC-422E-8773-1076B286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80EEA-B074-4590-822E-54778184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DA1C4-D637-412E-AF12-78843729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25D79-0643-4D3F-85FF-1956912E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5071-6869-4512-A5F9-ED73C732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07F7-5033-413A-939B-B8C1E3F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2C1C-C7D4-469C-B543-C9071A37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6025-190C-4A0A-B11B-F65C4F11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FADA-79D1-4A9B-A270-E2062E1D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8530-CA6F-47F4-871C-276AB83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9168-EB3A-4651-AE05-2C103467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B039-9AD0-4FFF-82D4-B1151C05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91E1-E7F6-4A86-9B90-C5F95C43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AD3-24A9-4952-9046-1D4988AF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B5AE-4820-4772-8A4A-0FA3CC87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B115-5E46-4E29-AE26-9BDA18D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5B64-9E10-4B88-ACF2-F271E34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BE7F-A084-42B0-B7AC-042E80F5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5BAB-CF1E-46B7-992C-EBC7EECB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1C9A-156C-4DB9-A3AB-0140E04A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6D66-95AB-4AEB-AB11-1658D3CD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E6D7-B900-41C6-91E8-E3DB000A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D188-6E34-4BC0-A0D0-8BC5D2DE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5B8F-A0E1-4D9D-9612-0616A1D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6AA-4846-4641-A003-86580CD9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C9E3-1BE5-4F7C-801D-CE7DAFAC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9DE4-4507-4ED2-8000-37AC9A0B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3D39-92AC-4AD1-9E0E-C8FF34CF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A98B3-2D4B-4389-8D65-91EDA4F5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3696-073D-4851-8262-7AA979A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7C83-BC1D-4214-B01D-FB12574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66DEC-279D-4026-95E4-ED2DFF17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444C7-2F6C-4589-BBDD-F741B97C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E005-56F5-4FA6-B176-C5FE7D1F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E7AC6-E912-4AB4-9190-408E39A4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653-55FA-4841-B129-D401558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AA09-518F-4678-9F2B-4449214A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204C6-F4C4-44BB-B481-10E4B334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7B4C-7568-42AF-9045-B02F87EE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106A6-279E-466C-83C7-81952144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31E1-CC6C-4923-A663-801F779B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BFB12-7C48-4936-BA63-48C22E4A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D0C8-045F-4408-84CE-011A586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D6F61-9F5C-4607-AB40-72E9A198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06ECA-0F80-41EF-8F5A-D91E8B0E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838A-D2E1-4BE7-870A-33797041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E57-93BB-4717-9E00-DA62531E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AE11-761D-4094-97FA-57C5C398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3917E-A9B4-441E-A904-B7F82196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0E51-98CE-4F7D-911D-2542340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4698D-2B02-46F6-9846-1D825BC1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FEBC9-01DA-49EF-A21C-FA6BFA27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84C93-87CC-482E-81A4-00B7AE5D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6331E-10FD-4210-8D86-3CE86747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2E295-B26C-4DC8-A1F1-3BB0A6F7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FBA6-6DC7-4810-8CE8-4A61F92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09F4-ED67-47B8-A40C-950E0DC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03F-A3EC-4115-972E-08EBE0B1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61C0B-931A-4147-80D3-FEF1AF29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F8819-0F8F-4470-8CBD-C0718FD6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79086-B547-4ECE-BDA5-4CCED848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6C57C-D7C0-4DD9-AB6A-282F681D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20973-521C-4E7F-A7DE-CB74F0B4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4F6E-791A-4DCC-8514-4F05FC94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0FED-50DF-4855-8B99-8AF1C029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CB99D-906C-4CC7-B731-060614FF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399F2-5741-4C33-B509-D40121C7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CBA2B-7CC6-45E6-901E-6C9336EE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736-4438-4649-8ECA-AACC52BD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D8D68-96CA-491C-B8A3-92778342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B4C51-2206-485E-8FFD-2EBAE32D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135DF-A81E-41DF-AB1F-BC3D0C54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D2604-8432-465F-8017-0E730136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7B77-3E5D-40B5-8A50-9CDF76F9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76EB7-F9D0-49FB-B46A-6C952C6D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DC730-7406-4E52-AA77-3CEBE74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C021-5075-48D1-971A-FAC1A06B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13D4F-E54F-4E96-80F7-AFC46D81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1CB27-AB95-4A1B-A22C-4D3BB49E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F1A-9414-4EC2-9D15-D2E59168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B6F8E-A450-48C3-8796-8CD5E8AB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3700C-446B-4B61-8A4F-1CD0C37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3B8B1-35A4-4F9A-9B09-5B4BD07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EB968-5944-4FC7-B20A-6D9AB077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D5991-8D3B-464A-9D98-0E18782E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AA991-747D-44B2-BF76-08CECA34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763D6-7D63-4A9D-B59F-0D7B89B4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E8CF0-976F-4BD1-B16C-D171F80E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B5A11-F7C9-4BAF-8C58-A1BA0019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5FBCA-4FF5-468D-ADF8-12F9A86B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2F086-20B2-44A4-8DAC-0ECF7A8510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9385F-BC85-434C-BD31-88D9514BF3C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1E50D-1E8F-46BB-87E2-FDFCEF20D5A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3428D-F8C0-45F3-9881-93340A3B943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ACBE2-4E9B-4F1A-9EED-B051DAF2136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DAFF6-44D2-4155-B4B0-EE38B3B7336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956E1-4025-4DE1-A590-EF83A947226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B1B54-6F16-4F52-BD16-86FAD7CF539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E5179-D019-484D-94C4-2214D54FAE5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AAF59-E257-4717-B475-6E52ABB0AB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D5B64-2476-41FF-8E41-EEFEBD7F66C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9B2F3-8E5D-41CE-A360-28BD21AC040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31977-1F07-41B2-96A3-911D6F6A370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07366-70D8-47B7-A53A-A4C098E166E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CDD6E-27DB-4B14-8992-C4344E8EA13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64BAE-0E1D-4806-9F83-FE880178031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45C72-9666-47D4-AEF0-5E4789B1360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Century Gothic"/>
              </a:rPr>
              <a:t>HOUSES AND THE CONCEPT OF HOME FOR THE BRITISH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pared by Group 2 (Olga Domnina, Anton Goncharov, Maria Kulaeva,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Daria Kurokhtina, Maria Mishakova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own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y often have three or more floors, including a basement or semi-basemen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re is great variety regarding both design and us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lthough they are usually terraced, those that are well-preserved and in a 'good' area may be thought </a:t>
            </a:r>
            <a:r>
              <a:rPr b="0" i="1" lang="en-US" sz="1800" spc="-1" strike="noStrike">
                <a:solidFill>
                  <a:srgbClr val="404040"/>
                </a:solidFill>
                <a:latin typeface="Century Gothic"/>
              </a:rPr>
              <a:t>highly desirabl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ny have been broken up into flats or rooms for rent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wo types: 'self-contained flats’ or ' bedsits'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lf-contained’ flats have washing and cooking facilitie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dsits'  i.e. bed-sitting rooms ; residents have one room to themselves and share washing and cooking facilities with other reside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flat – the least desirable home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5" name="Рисунок 1" descr=""/>
          <p:cNvPicPr/>
          <p:nvPr/>
        </p:nvPicPr>
        <p:blipFill>
          <a:blip r:embed="rId1"/>
          <a:stretch/>
        </p:blipFill>
        <p:spPr>
          <a:xfrm>
            <a:off x="2801880" y="2298600"/>
            <a:ext cx="3213000" cy="416736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3" descr=""/>
          <p:cNvPicPr/>
          <p:nvPr/>
        </p:nvPicPr>
        <p:blipFill>
          <a:blip r:embed="rId2"/>
          <a:stretch/>
        </p:blipFill>
        <p:spPr>
          <a:xfrm>
            <a:off x="7074000" y="2298600"/>
            <a:ext cx="30495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Block of flat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Located far beyond the city centre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Residential building consisting of apartment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oncrete is the most common building material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n walls with extremely poor soundproofing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elevator is accommodated due to number of floor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side the Houses and Flats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Содержимое 4" descr="http://3.bp.blogspot.com/-CL4cD0wVXtw/UZTGXNlMctI/AAAAAAAAAF0/VzfcVhiiiEI/s640/furniture.png"/>
          <p:cNvPicPr/>
          <p:nvPr/>
        </p:nvPicPr>
        <p:blipFill>
          <a:blip r:embed="rId1"/>
          <a:srcRect l="0" t="0" r="0" b="9850"/>
          <a:stretch/>
        </p:blipFill>
        <p:spPr>
          <a:xfrm>
            <a:off x="2589120" y="2340000"/>
            <a:ext cx="4313160" cy="3171960"/>
          </a:xfrm>
          <a:prstGeom prst="rect">
            <a:avLst/>
          </a:prstGeom>
          <a:ln w="0">
            <a:noFill/>
          </a:ln>
        </p:spPr>
      </p:pic>
      <p:pic>
        <p:nvPicPr>
          <p:cNvPr id="1211" name="Содержимое 5" descr="https://fs00.infourok.ru/images/doc/201/229673/img4.jpg"/>
          <p:cNvPicPr/>
          <p:nvPr/>
        </p:nvPicPr>
        <p:blipFill>
          <a:blip r:embed="rId2"/>
          <a:stretch/>
        </p:blipFill>
        <p:spPr>
          <a:xfrm>
            <a:off x="7167600" y="2332080"/>
            <a:ext cx="4287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side the Houses and Fla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ouses and flats are described in terms of numbers of bedrooms, e.g. a two-bedroom flat or a four-bedroom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 two-floor houses living room and kitchen are downstairs, bedrooms and bathroom are upstair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hildren usually have their own bedroom or may share a room with a brother or sister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re could be a basement – a part of a building consisting of rooms that are partly or completely below the level of the groun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studio is a small flat designed to be lived in by one or two people. It usually has one large room for sleeping and living in, a bathroom and possibly a small separate kitche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few facts about 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owning and ren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desire to own the place where you live is almost universal in Britai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ouse prices are high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bout 70% of all the houses in the country are occupied by their owners and almost all of these were bought with a mortgag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alf of these are owned by people who have borrowed 80% (or even more) of their price and are now paying this money back month by month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normal arrangement is for the borrower to pay back the money over a period of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wenty to twenty-five year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fore the end of the 20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century, most working-class people lived in rented accommoda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Picture 2" descr=""/>
          <p:cNvPicPr/>
          <p:nvPr/>
        </p:nvPicPr>
        <p:blipFill>
          <a:blip r:embed="rId1"/>
          <a:stretch/>
        </p:blipFill>
        <p:spPr>
          <a:xfrm>
            <a:off x="2343240" y="1042920"/>
            <a:ext cx="7245360" cy="434520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1"/>
          <p:cNvSpPr/>
          <p:nvPr/>
        </p:nvSpPr>
        <p:spPr>
          <a:xfrm>
            <a:off x="3630600" y="5643720"/>
            <a:ext cx="46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ource: General Household Survey(989-90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262626"/>
                </a:solidFill>
                <a:latin typeface="Century Gothic"/>
              </a:rPr>
              <a:t>Cost of Houses</a:t>
            </a:r>
            <a:r>
              <a:rPr b="0" lang="en-US" sz="2300" spc="-1" strike="noStrike">
                <a:solidFill>
                  <a:srgbClr val="262626"/>
                </a:solidFill>
                <a:latin typeface="Century Gothic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A big problem in England is the rising cost of houses. 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1989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first-time buyers paid an average of around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40,000,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2001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this had more than doubled to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85,000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and 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2006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to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151,565.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2263320" y="2133360"/>
            <a:ext cx="4638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003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wage per year: £20,000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house price: over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£120,000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st of Houses in 200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verage Cost: £182,92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tached: £282,15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mi-detached: £169,074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erraced: £139,12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lat: £168,57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6945480" y="2125440"/>
            <a:ext cx="4559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00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wage per year: £23,244 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house price: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£184,924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st of Houses in 200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verage Cost: £184,924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tached: £285,697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mi-detached: £170,650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erraced: £143,512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lat: £174,05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ypes of hou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detached house – the most desira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semi-detached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erraced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own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lock of flats – the least desira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references of the British are determined by their desire for privacy and the importance attached to ownership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detached house – the most desirable home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1" name="Picture 2" descr="Картинки по запросу detached house перевод"/>
          <p:cNvPicPr/>
          <p:nvPr/>
        </p:nvPicPr>
        <p:blipFill>
          <a:blip r:embed="rId1"/>
          <a:stretch/>
        </p:blipFill>
        <p:spPr>
          <a:xfrm>
            <a:off x="2714760" y="2828880"/>
            <a:ext cx="3733560" cy="249876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8" descr="Картинки по запросу detached house"/>
          <p:cNvPicPr/>
          <p:nvPr/>
        </p:nvPicPr>
        <p:blipFill>
          <a:blip r:embed="rId2"/>
          <a:stretch/>
        </p:blipFill>
        <p:spPr>
          <a:xfrm>
            <a:off x="6724800" y="2828880"/>
            <a:ext cx="33350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etach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raditional building materials are used: brick for walls and slate for the roo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rregular, “non-classical” shape with all those little corners, making the house feel “cozy”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large front garden with trees and bushes, evoking not only the countryside but also giving greater privac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garage is hidden away so that it is not too obvious and doesn’t spoil the rural feel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front door cannot be easily seen from the stree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o expensive for most peop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semi-detached house – the second best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7" name="Picture 6" descr=""/>
          <p:cNvPicPr/>
          <p:nvPr/>
        </p:nvPicPr>
        <p:blipFill>
          <a:blip r:embed="rId1"/>
          <a:stretch/>
        </p:blipFill>
        <p:spPr>
          <a:xfrm>
            <a:off x="2592360" y="2533680"/>
            <a:ext cx="3681360" cy="27576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8" descr="Картинки по запросу semi-detached house"/>
          <p:cNvPicPr/>
          <p:nvPr/>
        </p:nvPicPr>
        <p:blipFill>
          <a:blip r:embed="rId2"/>
          <a:stretch/>
        </p:blipFill>
        <p:spPr>
          <a:xfrm>
            <a:off x="6669000" y="2533680"/>
            <a:ext cx="41436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Semi-detach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One building with two separate household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ach house is the mirror of the other, both inside and outsid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be found in the suburbs of cities and the outskirts of towns all over Britai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ach house has a separate front garde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t the sides, there is access to the back, where two separate gardens can also be foun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rick is the most common building materia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ypical demi-detached house has two floors and three bedroo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terraced hou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3" name="Рисунок 2" descr=""/>
          <p:cNvPicPr/>
          <p:nvPr/>
        </p:nvPicPr>
        <p:blipFill>
          <a:blip r:embed="rId1"/>
          <a:stretch/>
        </p:blipFill>
        <p:spPr>
          <a:xfrm>
            <a:off x="2592360" y="1793880"/>
            <a:ext cx="4309920" cy="3319560"/>
          </a:xfrm>
          <a:prstGeom prst="rect">
            <a:avLst/>
          </a:prstGeom>
          <a:ln w="0">
            <a:noFill/>
          </a:ln>
        </p:spPr>
      </p:pic>
      <p:pic>
        <p:nvPicPr>
          <p:cNvPr id="1194" name="Рисунок 4" descr=""/>
          <p:cNvPicPr/>
          <p:nvPr/>
        </p:nvPicPr>
        <p:blipFill>
          <a:blip r:embed="rId2"/>
          <a:stretch/>
        </p:blipFill>
        <p:spPr>
          <a:xfrm>
            <a:off x="7066080" y="1793880"/>
            <a:ext cx="42544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errac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two shared (party) walls except for end-of-terrace house unit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ndividual front doors and pedestrian access to dwellings, either directly off the street or from shared driveways or accessway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typically one to four storey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they can be converted into flats or remain as individual house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ar parking is accommodated within the house (integral garage), in-curtilage(within shared access) or on stree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a private rear garden or patio and a front entrance area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onsistency in front façade design, building line and skylin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learly defined fronts and backs with fronts addressing public streets, spaces or accessways. Backs are contained to the rear, and are usually back-to-back in a perimeter block arrangement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          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town hou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Рисунок 1" descr=""/>
          <p:cNvPicPr/>
          <p:nvPr/>
        </p:nvPicPr>
        <p:blipFill>
          <a:blip r:embed="rId1"/>
          <a:stretch/>
        </p:blipFill>
        <p:spPr>
          <a:xfrm>
            <a:off x="987480" y="2251080"/>
            <a:ext cx="4695840" cy="3130560"/>
          </a:xfrm>
          <a:prstGeom prst="rect">
            <a:avLst/>
          </a:prstGeom>
          <a:ln w="0">
            <a:noFill/>
          </a:ln>
        </p:spPr>
      </p:pic>
      <p:pic>
        <p:nvPicPr>
          <p:cNvPr id="1200" name="Рисунок 2" descr=""/>
          <p:cNvPicPr/>
          <p:nvPr/>
        </p:nvPicPr>
        <p:blipFill>
          <a:blip r:embed="rId2"/>
          <a:stretch/>
        </p:blipFill>
        <p:spPr>
          <a:xfrm>
            <a:off x="6161040" y="2251080"/>
            <a:ext cx="46706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3T06:19:07Z</dcterms:created>
  <dc:creator>Kurokhtina, Daria</dc:creator>
  <dc:description/>
  <dc:language>en-US</dc:language>
  <cp:lastModifiedBy>Kurokhtina, Daria</cp:lastModifiedBy>
  <dcterms:modified xsi:type="dcterms:W3CDTF">2017-03-29T12:37:52Z</dcterms:modified>
  <cp:revision>25</cp:revision>
  <dc:subject/>
  <dc:title>HOUSES AND THE CONCEPT OF HOME FOR THE BRITISH</dc:title>
</cp:coreProperties>
</file>